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5.wmf" ContentType="image/x-wmf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5B99-5308-46F4-A772-5E10D26940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C21E-7448-480C-AD37-266E92C262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FFE8-B299-49AF-9DDB-1C0D6FEE3D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D0F1-BB78-4920-9FBD-87FC276C18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7404-4C79-42A8-9CAC-EA558DC010E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498A-F6D7-4121-B876-4C3EBD6831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A921-70DA-4DB6-949F-A11FB3A951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28AA-1128-45AF-B7D4-A08455FE040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B622-8F67-4720-B7D4-F821F94FA7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A770-F0C9-45AD-802E-B12F2D4A8BB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83B4-807A-4935-8F69-AD5EF50964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18487-F191-43CE-8A6D-308C887E9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B0872-104C-4238-B9DD-25369AC9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6AD5E-92E6-40AC-9306-E04612E7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730DD-F4E5-4C60-BEF5-EB3C1B82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D834D-9970-4A26-8637-6ECB7CD9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C33F8-0FE8-4DE4-8EE6-02EE6189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4A92B-1923-4246-9608-C8521ED9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7E8CB-E950-48D2-95C4-B4750CE3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80458-69A6-4B84-9580-43F312D9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9ABE5-9471-40A6-A127-010F31A6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59A3E-1874-46D1-9AD1-4CE6F606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E7E8A-CDF7-4786-B8E9-FD6B5D947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3CE34-98C0-41C7-B1DD-41E18C23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15064-D9DE-40A5-B4AD-96F013BF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9582A-E3B4-4414-BCDC-8CE31471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CB6C76-EBCB-4664-8804-65CE453D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ACF5DA-EA9F-4750-BD81-0895ED8F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A0A22-FC7B-45EF-B1C5-F9304B62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801EE-AB37-4AB8-A10B-C61766F4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B795B7-E93B-48EA-A614-C7259F3F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B9FE6-7A96-4B3F-829C-7CCF584B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840448-A5D5-499F-B6C0-CB8DA8CD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E4515-ECDC-4BBA-848D-9E495117A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C3BC0-4BDA-4509-94AC-5BD3AB007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D5118-96F8-4D46-B07A-12C6F638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6AB6B-C44A-4917-B1E5-358D79CA7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DCFE8-4AE0-46CF-9347-2C4B4FF8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F65E5-86C7-4C1B-9335-B29C9ADC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50156-ACFA-4D67-AFB2-5920371A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294B2-94E3-48F9-AF91-40463CC1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9B291-E6E4-4696-9717-E8A2D2BE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25D40-FDE2-428B-B03D-6AFFE4E5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022E4-1A38-4998-88D2-070A20EC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50CA1-54CA-4435-8A45-7304F940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6015-8AFB-462A-8B9C-AC7E41D3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54F4E-BC7A-474D-9D44-5F075BFE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2E1F7-C41F-4181-84C6-CB091AC8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C60A5-5746-4201-A885-FFE503040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4F3E-7299-4B2B-B655-F129E8FD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62C6-58BC-4A57-A0F8-637A2BA7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96C8-3B7B-4C8E-AE49-4EBAA882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FDD2-93D7-4E52-808B-A5E2AAB0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5C44-AEE8-4AAC-8356-AA2026BE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CBEA-11A1-440E-82EE-EB5A5815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E402F-26E1-4A43-9F5A-DAC39715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35F9-9F1A-46EC-9BD5-6104BA2E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09D7-EA93-4A14-9BD0-0FFB454F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324C-8E28-4F46-9A04-C46AD26C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737F-3647-4E8A-A02F-E52347159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278A-6EC1-4BA0-B130-B5EE609E0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6BDD7E-2FEE-40DF-95E3-4B214198B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DF72D4-F5A3-4170-A897-663A711C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592C2E-39A1-45CD-B6A6-3B929922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17B41E-88A2-4C52-99D3-5618D055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800D62-6516-4243-94EB-D82C023A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56CFE-369A-4478-AD4F-F165F5B5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09005C-6238-404F-A1A8-2DEEC97B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5B2334-9FCA-4036-8B1A-9DBF3B9E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5E0292-7038-4693-864A-5A56E170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D2115B-A7E8-495A-A368-F09FE181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E5CD60-FB47-4363-B6E3-657A7831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8E12A0-0CBF-4B7F-A3EB-DE62C8F2C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F35460-01CC-4F29-A1F6-005441B5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CD978A-1275-4B30-B531-E7D44033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F66FB6-BF00-4F59-87CC-734A00E0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D6316C-54E8-4773-A336-F411A292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2A8B0-FB7F-475F-8E66-6B7269A8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C86AE2-3AD1-4B66-B637-0093FC4C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A6CC48-E955-4B0A-8873-0D61B343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3A7417-574E-4DBA-8134-D4EEE82E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A912F9-F138-4757-BA0F-CE7656CA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F9FC10-4C96-4967-B1AC-340B2604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DCE2BD-48A6-4AD1-A0BE-7C98719D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F8FB65-BDED-4960-896F-8D1E8BBF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56732A-A61B-4AA3-8DF9-54443021D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9B83A6-38AB-4C96-B3C7-144616CE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C77B8-68FA-4F9D-A8CC-216CFFE4F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D5A37-C6D8-4050-A451-235F50B6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FE057-8B43-4EFA-A74F-A8F1110B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B0955-8203-43ED-BEDF-B9F0C5FC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D8FCA-89FC-4F80-8A72-62A5DBC2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CD562-BF9A-4EF7-A1D1-3C4CF7FC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57E0D-36A7-4DB0-AEA9-EF1E228D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89D78-C3FE-4566-B901-D52C4EDB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DCF74-546B-490D-ABBA-A893201F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69EEC-7299-4433-BA8B-7A8D52BE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B580F-851E-46BE-9B44-937A9D30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3AFF9-1EE7-4519-9187-130EDF648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44ABB-2EB4-467D-8F8A-6A05E50A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281D0-99A6-4DDF-8350-DB2156870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93051-98B6-4ED3-865A-F59385D21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E4033-715B-4D78-AB5C-D15E8CE7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0FBEB-A477-4480-8C20-915FF2FB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A62C9-E857-45EC-B39F-060A6E13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5EB28-ACD1-4A37-A83D-1C77EB3D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34B13-A237-430F-9D6C-F3AA7211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CC7EA-4563-4741-88BF-A6D01A45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8F871-BC66-4D76-9EF3-1C56C747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5016E-1C57-46F3-A13F-0A6AFBDF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9B247-74FB-4F67-9F85-8B9FCEDF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AB3B6-2AD9-4EAA-8D07-FEDBEA64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2252D-9FE0-4CE6-A995-009362B0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F665E-E5AD-415D-A394-EB251A27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8535C-D411-4889-9D66-345AFE047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825D1-0AA4-4D0C-8C24-4E6476E5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661D2-2A48-4815-8531-0EA45160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7AB37-9F55-4CAC-9758-855EFF47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19692-FD77-4110-8471-876CB4BF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95362-6D48-4326-B3E5-D511E7CF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853A4-781A-4D3D-B64A-0C6B9A81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CFBD8-2629-4251-9F63-8069B274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65A81-5C63-47C6-B7D0-3B730720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62183-7617-42B2-9CF9-FC2A45EE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B6289-440F-4E0E-A6F1-A8C4C565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E6DA9-D786-4F6A-A9AC-DEB1191C2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E304C-7536-4013-BB0F-58DA3CDCD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B1E0D-5F25-4D70-816C-F544AA826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F6ECC-F902-4061-9856-A3F9BC91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F8787-5F18-4916-8996-7F418680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D9A94-FE70-4AC0-BBD6-C059AEE8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B38F9-F97B-4C79-9DA7-71531396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957BD-621D-466C-8224-554DC50F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6B6BC-1DBC-49D0-89F4-5D614DB3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90BA4-4F7C-47DC-B5FD-FC7189CD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AC27C-270B-443E-93B5-3E29089C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9FFC3-E0D2-4089-AB4D-0ADDC0E0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B1C95-C4AF-4FBE-A181-E5CC02FB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88C6D-F876-4944-A113-A32128E34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BC195-686C-4818-9570-DC48D7E1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89570-3DE2-457F-9D92-8484F851B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62FA5-0BD1-4191-AE8E-555147EE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131BB-25AA-4EE2-B886-A950F8B5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3F21-0CC6-4FCE-AA97-89A9176F11E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0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0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8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 type="ftr" idx="29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E712-246F-4745-8B3F-EBFD8B53A9D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1" name="Group 2"/>
          <p:cNvGrpSpPr/>
          <p:nvPr/>
        </p:nvGrpSpPr>
        <p:grpSpPr>
          <a:xfrm>
            <a:off x="2010960" y="245520"/>
            <a:ext cx="6896160" cy="5451480"/>
            <a:chOff x="2010960" y="245520"/>
            <a:chExt cx="6896160" cy="5451480"/>
          </a:xfrm>
        </p:grpSpPr>
        <p:grpSp>
          <p:nvGrpSpPr>
            <p:cNvPr id="1052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053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Oval 5"/>
              <p:cNvSpPr/>
              <p:nvPr/>
            </p:nvSpPr>
            <p:spPr>
              <a:xfrm>
                <a:off x="382392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5" name="Group 6"/>
            <p:cNvGrpSpPr/>
            <p:nvPr/>
          </p:nvGrpSpPr>
          <p:grpSpPr>
            <a:xfrm>
              <a:off x="2010960" y="245520"/>
              <a:ext cx="6896160" cy="5451480"/>
              <a:chOff x="2010960" y="245520"/>
              <a:chExt cx="6896160" cy="5451480"/>
            </a:xfrm>
          </p:grpSpPr>
          <p:grpSp>
            <p:nvGrpSpPr>
              <p:cNvPr id="1056" name="Group 7"/>
              <p:cNvGrpSpPr/>
              <p:nvPr/>
            </p:nvGrpSpPr>
            <p:grpSpPr>
              <a:xfrm>
                <a:off x="2010960" y="245520"/>
                <a:ext cx="6891120" cy="5451480"/>
                <a:chOff x="2010960" y="245520"/>
                <a:chExt cx="6891120" cy="5451480"/>
              </a:xfrm>
            </p:grpSpPr>
            <p:grpSp>
              <p:nvGrpSpPr>
                <p:cNvPr id="1057" name="Group 8"/>
                <p:cNvGrpSpPr/>
                <p:nvPr/>
              </p:nvGrpSpPr>
              <p:grpSpPr>
                <a:xfrm>
                  <a:off x="3735720" y="1267200"/>
                  <a:ext cx="3599280" cy="2651040"/>
                  <a:chOff x="3735720" y="1267200"/>
                  <a:chExt cx="3599280" cy="2651040"/>
                </a:xfrm>
              </p:grpSpPr>
              <p:sp>
                <p:nvSpPr>
                  <p:cNvPr id="1058" name="Oval 9"/>
                  <p:cNvSpPr/>
                  <p:nvPr/>
                </p:nvSpPr>
                <p:spPr>
                  <a:xfrm>
                    <a:off x="3735720" y="1267200"/>
                    <a:ext cx="359928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Oval 10"/>
                  <p:cNvSpPr/>
                  <p:nvPr/>
                </p:nvSpPr>
                <p:spPr>
                  <a:xfrm>
                    <a:off x="510948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0" name="Group 11"/>
                <p:cNvGrpSpPr/>
                <p:nvPr/>
              </p:nvGrpSpPr>
              <p:grpSpPr>
                <a:xfrm>
                  <a:off x="2010960" y="245520"/>
                  <a:ext cx="6891120" cy="5451480"/>
                  <a:chOff x="2010960" y="245520"/>
                  <a:chExt cx="6891120" cy="5451480"/>
                </a:xfrm>
              </p:grpSpPr>
              <p:grpSp>
                <p:nvGrpSpPr>
                  <p:cNvPr id="1061" name="Group 12"/>
                  <p:cNvGrpSpPr/>
                  <p:nvPr/>
                </p:nvGrpSpPr>
                <p:grpSpPr>
                  <a:xfrm>
                    <a:off x="5761080" y="2323440"/>
                    <a:ext cx="2558880" cy="2740320"/>
                    <a:chOff x="5761080" y="2323440"/>
                    <a:chExt cx="2558880" cy="2740320"/>
                  </a:xfrm>
                </p:grpSpPr>
                <p:sp>
                  <p:nvSpPr>
                    <p:cNvPr id="1062" name="Freeform 13"/>
                    <p:cNvSpPr/>
                    <p:nvPr/>
                  </p:nvSpPr>
                  <p:spPr>
                    <a:xfrm rot="2711400">
                      <a:off x="5583960" y="3020400"/>
                      <a:ext cx="21258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3" name="Freeform 14"/>
                    <p:cNvSpPr/>
                    <p:nvPr/>
                  </p:nvSpPr>
                  <p:spPr>
                    <a:xfrm rot="2711400">
                      <a:off x="7134480" y="414468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4" name="Group 15"/>
                  <p:cNvGrpSpPr/>
                  <p:nvPr/>
                </p:nvGrpSpPr>
                <p:grpSpPr>
                  <a:xfrm>
                    <a:off x="5787720" y="2149560"/>
                    <a:ext cx="3039840" cy="2528280"/>
                    <a:chOff x="5787720" y="2149560"/>
                    <a:chExt cx="3039840" cy="2528280"/>
                  </a:xfrm>
                </p:grpSpPr>
                <p:sp>
                  <p:nvSpPr>
                    <p:cNvPr id="1065" name="Freeform 16"/>
                    <p:cNvSpPr/>
                    <p:nvPr/>
                  </p:nvSpPr>
                  <p:spPr>
                    <a:xfrm rot="2103600">
                      <a:off x="5707080" y="2752920"/>
                      <a:ext cx="2235600" cy="426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6" name="Freeform 17"/>
                    <p:cNvSpPr/>
                    <p:nvPr/>
                  </p:nvSpPr>
                  <p:spPr>
                    <a:xfrm rot="2103600">
                      <a:off x="7542360" y="3721680"/>
                      <a:ext cx="120096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7" name="Group 18"/>
                  <p:cNvGrpSpPr/>
                  <p:nvPr/>
                </p:nvGrpSpPr>
                <p:grpSpPr>
                  <a:xfrm>
                    <a:off x="5775120" y="2065320"/>
                    <a:ext cx="3097440" cy="1992600"/>
                    <a:chOff x="5775120" y="2065320"/>
                    <a:chExt cx="3097440" cy="1992600"/>
                  </a:xfrm>
                </p:grpSpPr>
                <p:sp>
                  <p:nvSpPr>
                    <p:cNvPr id="1068" name="Freeform 19"/>
                    <p:cNvSpPr/>
                    <p:nvPr/>
                  </p:nvSpPr>
                  <p:spPr>
                    <a:xfrm rot="1582800">
                      <a:off x="574668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9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70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071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2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73" name="Group 24"/>
                  <p:cNvGrpSpPr/>
                  <p:nvPr/>
                </p:nvGrpSpPr>
                <p:grpSpPr>
                  <a:xfrm>
                    <a:off x="5806080" y="1879920"/>
                    <a:ext cx="2938680" cy="1001880"/>
                    <a:chOff x="5806080" y="1879920"/>
                    <a:chExt cx="2938680" cy="1001880"/>
                  </a:xfrm>
                </p:grpSpPr>
                <p:sp>
                  <p:nvSpPr>
                    <p:cNvPr id="1074" name="Freeform 25"/>
                    <p:cNvSpPr/>
                    <p:nvPr/>
                  </p:nvSpPr>
                  <p:spPr>
                    <a:xfrm rot="463200">
                      <a:off x="5823000" y="2005920"/>
                      <a:ext cx="190368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5" name="Freeform 26"/>
                    <p:cNvSpPr/>
                    <p:nvPr/>
                  </p:nvSpPr>
                  <p:spPr>
                    <a:xfrm rot="463200">
                      <a:off x="7685640" y="2212920"/>
                      <a:ext cx="102312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76" name="Group 27"/>
                  <p:cNvGrpSpPr/>
                  <p:nvPr/>
                </p:nvGrpSpPr>
                <p:grpSpPr>
                  <a:xfrm>
                    <a:off x="5851440" y="1815480"/>
                    <a:ext cx="2658600" cy="444960"/>
                    <a:chOff x="5851440" y="1815480"/>
                    <a:chExt cx="2658600" cy="444960"/>
                  </a:xfrm>
                </p:grpSpPr>
                <p:sp>
                  <p:nvSpPr>
                    <p:cNvPr id="1077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8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8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79" name="Group 30"/>
                  <p:cNvGrpSpPr/>
                  <p:nvPr/>
                </p:nvGrpSpPr>
                <p:grpSpPr>
                  <a:xfrm>
                    <a:off x="5788440" y="1305360"/>
                    <a:ext cx="2363760" cy="785520"/>
                    <a:chOff x="5788440" y="1305360"/>
                    <a:chExt cx="2363760" cy="785520"/>
                  </a:xfrm>
                </p:grpSpPr>
                <p:sp>
                  <p:nvSpPr>
                    <p:cNvPr id="1080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1" name="Freeform 32"/>
                    <p:cNvSpPr/>
                    <p:nvPr/>
                  </p:nvSpPr>
                  <p:spPr>
                    <a:xfrm rot="20797200">
                      <a:off x="7298640" y="1393920"/>
                      <a:ext cx="81648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2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1083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4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5" name="Group 36"/>
                  <p:cNvGrpSpPr/>
                  <p:nvPr/>
                </p:nvGrpSpPr>
                <p:grpSpPr>
                  <a:xfrm>
                    <a:off x="2085120" y="2366640"/>
                    <a:ext cx="3039840" cy="2530440"/>
                    <a:chOff x="2085120" y="2366640"/>
                    <a:chExt cx="3039840" cy="2530440"/>
                  </a:xfrm>
                </p:grpSpPr>
                <p:sp>
                  <p:nvSpPr>
                    <p:cNvPr id="1086" name="Freeform 37"/>
                    <p:cNvSpPr/>
                    <p:nvPr/>
                  </p:nvSpPr>
                  <p:spPr>
                    <a:xfrm flipH="1" rot="19496400">
                      <a:off x="2968560" y="2969640"/>
                      <a:ext cx="2235600" cy="42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7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8" name="Group 39"/>
                  <p:cNvGrpSpPr/>
                  <p:nvPr/>
                </p:nvGrpSpPr>
                <p:grpSpPr>
                  <a:xfrm>
                    <a:off x="2040840" y="2283480"/>
                    <a:ext cx="3096360" cy="1991160"/>
                    <a:chOff x="2040840" y="2283480"/>
                    <a:chExt cx="3096360" cy="1991160"/>
                  </a:xfrm>
                </p:grpSpPr>
                <p:sp>
                  <p:nvSpPr>
                    <p:cNvPr id="1089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0" name="Freeform 41"/>
                    <p:cNvSpPr/>
                    <p:nvPr/>
                  </p:nvSpPr>
                  <p:spPr>
                    <a:xfrm flipH="1" rot="20017200">
                      <a:off x="2111040" y="346320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1" name="Group 42"/>
                  <p:cNvGrpSpPr/>
                  <p:nvPr/>
                </p:nvGrpSpPr>
                <p:grpSpPr>
                  <a:xfrm>
                    <a:off x="2010960" y="2189880"/>
                    <a:ext cx="3134160" cy="1608120"/>
                    <a:chOff x="2010960" y="2189880"/>
                    <a:chExt cx="3134160" cy="1608120"/>
                  </a:xfrm>
                </p:grpSpPr>
                <p:sp>
                  <p:nvSpPr>
                    <p:cNvPr id="1092" name="Freeform 43"/>
                    <p:cNvSpPr/>
                    <p:nvPr/>
                  </p:nvSpPr>
                  <p:spPr>
                    <a:xfrm flipH="1" rot="20520000">
                      <a:off x="3063600" y="249912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3" name="Freeform 44"/>
                    <p:cNvSpPr/>
                    <p:nvPr/>
                  </p:nvSpPr>
                  <p:spPr>
                    <a:xfrm flipH="1" rot="20520000">
                      <a:off x="2084040" y="299232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4" name="Group 45"/>
                  <p:cNvGrpSpPr/>
                  <p:nvPr/>
                </p:nvGrpSpPr>
                <p:grpSpPr>
                  <a:xfrm>
                    <a:off x="2167560" y="2098080"/>
                    <a:ext cx="2939040" cy="1000800"/>
                    <a:chOff x="2167560" y="2098080"/>
                    <a:chExt cx="2939040" cy="1000800"/>
                  </a:xfrm>
                </p:grpSpPr>
                <p:sp>
                  <p:nvSpPr>
                    <p:cNvPr id="1095" name="Freeform 46"/>
                    <p:cNvSpPr/>
                    <p:nvPr/>
                  </p:nvSpPr>
                  <p:spPr>
                    <a:xfrm flipH="1" rot="21136800">
                      <a:off x="3185640" y="2224080"/>
                      <a:ext cx="1903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6" name="Freeform 47"/>
                    <p:cNvSpPr/>
                    <p:nvPr/>
                  </p:nvSpPr>
                  <p:spPr>
                    <a:xfrm flipH="1" rot="21136800">
                      <a:off x="2202840" y="242964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7" name="Group 48"/>
                  <p:cNvGrpSpPr/>
                  <p:nvPr/>
                </p:nvGrpSpPr>
                <p:grpSpPr>
                  <a:xfrm>
                    <a:off x="2403720" y="2032560"/>
                    <a:ext cx="2658600" cy="447120"/>
                    <a:chOff x="2403720" y="2032560"/>
                    <a:chExt cx="2658600" cy="447120"/>
                  </a:xfrm>
                </p:grpSpPr>
                <p:sp>
                  <p:nvSpPr>
                    <p:cNvPr id="1098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9" name="Freeform 50"/>
                    <p:cNvSpPr/>
                    <p:nvPr/>
                  </p:nvSpPr>
                  <p:spPr>
                    <a:xfrm flipH="1" rot="84600">
                      <a:off x="2408760" y="204372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0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1101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2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3" name="Group 54"/>
                  <p:cNvGrpSpPr/>
                  <p:nvPr/>
                </p:nvGrpSpPr>
                <p:grpSpPr>
                  <a:xfrm>
                    <a:off x="2887200" y="1238040"/>
                    <a:ext cx="2323800" cy="1082520"/>
                    <a:chOff x="2887200" y="1238040"/>
                    <a:chExt cx="2323800" cy="1082520"/>
                  </a:xfrm>
                </p:grpSpPr>
                <p:sp>
                  <p:nvSpPr>
                    <p:cNvPr id="1104" name="Freeform 55"/>
                    <p:cNvSpPr/>
                    <p:nvPr/>
                  </p:nvSpPr>
                  <p:spPr>
                    <a:xfrm flipH="1" rot="1278000">
                      <a:off x="3694320" y="17881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5" name="Freeform 56"/>
                    <p:cNvSpPr/>
                    <p:nvPr/>
                  </p:nvSpPr>
                  <p:spPr>
                    <a:xfrm flipH="1" rot="1278000">
                      <a:off x="2934360" y="1371960"/>
                      <a:ext cx="81612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6" name="Group 57"/>
                  <p:cNvGrpSpPr/>
                  <p:nvPr/>
                </p:nvGrpSpPr>
                <p:grpSpPr>
                  <a:xfrm>
                    <a:off x="3161520" y="832680"/>
                    <a:ext cx="2169720" cy="1506600"/>
                    <a:chOff x="3161520" y="832680"/>
                    <a:chExt cx="2169720" cy="1506600"/>
                  </a:xfrm>
                </p:grpSpPr>
                <p:sp>
                  <p:nvSpPr>
                    <p:cNvPr id="1107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8" name="Freeform 59"/>
                    <p:cNvSpPr/>
                    <p:nvPr/>
                  </p:nvSpPr>
                  <p:spPr>
                    <a:xfrm flipH="1" rot="2028600">
                      <a:off x="3207600" y="102456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9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1110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1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2" name="Group 63"/>
                  <p:cNvGrpSpPr/>
                  <p:nvPr/>
                </p:nvGrpSpPr>
                <p:grpSpPr>
                  <a:xfrm>
                    <a:off x="4027320" y="334080"/>
                    <a:ext cx="1460880" cy="1888200"/>
                    <a:chOff x="4027320" y="334080"/>
                    <a:chExt cx="1460880" cy="1888200"/>
                  </a:xfrm>
                </p:grpSpPr>
                <p:sp>
                  <p:nvSpPr>
                    <p:cNvPr id="1113" name="Freeform 64"/>
                    <p:cNvSpPr/>
                    <p:nvPr/>
                  </p:nvSpPr>
                  <p:spPr>
                    <a:xfrm flipH="1" rot="3474000">
                      <a:off x="4336200" y="1444320"/>
                      <a:ext cx="13575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4" name="Freeform 65"/>
                    <p:cNvSpPr/>
                    <p:nvPr/>
                  </p:nvSpPr>
                  <p:spPr>
                    <a:xfrm flipH="1" rot="3474000">
                      <a:off x="4033080" y="544680"/>
                      <a:ext cx="72828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5" name="Group 66"/>
                  <p:cNvGrpSpPr/>
                  <p:nvPr/>
                </p:nvGrpSpPr>
                <p:grpSpPr>
                  <a:xfrm>
                    <a:off x="4448160" y="245520"/>
                    <a:ext cx="1123560" cy="1946880"/>
                    <a:chOff x="4448160" y="245520"/>
                    <a:chExt cx="1123560" cy="1946880"/>
                  </a:xfrm>
                </p:grpSpPr>
                <p:sp>
                  <p:nvSpPr>
                    <p:cNvPr id="1116" name="Freeform 67"/>
                    <p:cNvSpPr/>
                    <p:nvPr/>
                  </p:nvSpPr>
                  <p:spPr>
                    <a:xfrm flipH="1" rot="4126800">
                      <a:off x="4557240" y="1402200"/>
                      <a:ext cx="13078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7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8" name="Group 69"/>
                  <p:cNvGrpSpPr/>
                  <p:nvPr/>
                </p:nvGrpSpPr>
                <p:grpSpPr>
                  <a:xfrm>
                    <a:off x="5661720" y="952560"/>
                    <a:ext cx="2318760" cy="1112040"/>
                    <a:chOff x="5661720" y="952560"/>
                    <a:chExt cx="2318760" cy="1112040"/>
                  </a:xfrm>
                </p:grpSpPr>
                <p:sp>
                  <p:nvSpPr>
                    <p:cNvPr id="1119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0" name="Freeform 71"/>
                    <p:cNvSpPr/>
                    <p:nvPr/>
                  </p:nvSpPr>
                  <p:spPr>
                    <a:xfrm rot="20274000">
                      <a:off x="7113960" y="1090800"/>
                      <a:ext cx="8175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1" name="Group 72"/>
                  <p:cNvGrpSpPr/>
                  <p:nvPr/>
                </p:nvGrpSpPr>
                <p:grpSpPr>
                  <a:xfrm>
                    <a:off x="5529600" y="626400"/>
                    <a:ext cx="2200680" cy="1451160"/>
                    <a:chOff x="5529600" y="626400"/>
                    <a:chExt cx="2200680" cy="1451160"/>
                  </a:xfrm>
                </p:grpSpPr>
                <p:sp>
                  <p:nvSpPr>
                    <p:cNvPr id="1122" name="Freeform 73"/>
                    <p:cNvSpPr/>
                    <p:nvPr/>
                  </p:nvSpPr>
                  <p:spPr>
                    <a:xfrm rot="19678800">
                      <a:off x="5483880" y="14295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3" name="Freeform 74"/>
                    <p:cNvSpPr/>
                    <p:nvPr/>
                  </p:nvSpPr>
                  <p:spPr>
                    <a:xfrm rot="19678800">
                      <a:off x="6865200" y="810720"/>
                      <a:ext cx="81612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4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26" name="Group 77"/>
                  <p:cNvGrpSpPr/>
                  <p:nvPr/>
                </p:nvGrpSpPr>
                <p:grpSpPr>
                  <a:xfrm>
                    <a:off x="5355720" y="270360"/>
                    <a:ext cx="1195560" cy="1900800"/>
                    <a:chOff x="5355720" y="270360"/>
                    <a:chExt cx="1195560" cy="1900800"/>
                  </a:xfrm>
                </p:grpSpPr>
                <p:sp>
                  <p:nvSpPr>
                    <p:cNvPr id="1127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8" name="Freeform 79"/>
                    <p:cNvSpPr/>
                    <p:nvPr/>
                  </p:nvSpPr>
                  <p:spPr>
                    <a:xfrm rot="17742000">
                      <a:off x="5887440" y="486000"/>
                      <a:ext cx="70236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9" name="Group 80"/>
                  <p:cNvGrpSpPr/>
                  <p:nvPr/>
                </p:nvGrpSpPr>
                <p:grpSpPr>
                  <a:xfrm>
                    <a:off x="5348880" y="389160"/>
                    <a:ext cx="1890720" cy="1795320"/>
                    <a:chOff x="5348880" y="389160"/>
                    <a:chExt cx="1890720" cy="1795320"/>
                  </a:xfrm>
                </p:grpSpPr>
                <p:sp>
                  <p:nvSpPr>
                    <p:cNvPr id="1130" name="Freeform 81"/>
                    <p:cNvSpPr/>
                    <p:nvPr/>
                  </p:nvSpPr>
                  <p:spPr>
                    <a:xfrm rot="18822600">
                      <a:off x="5248800" y="138852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1" name="Freeform 82"/>
                    <p:cNvSpPr/>
                    <p:nvPr/>
                  </p:nvSpPr>
                  <p:spPr>
                    <a:xfrm rot="18822600">
                      <a:off x="6403680" y="585000"/>
                      <a:ext cx="76536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2" name="Group 83"/>
                  <p:cNvGrpSpPr/>
                  <p:nvPr/>
                </p:nvGrpSpPr>
                <p:grpSpPr>
                  <a:xfrm>
                    <a:off x="5459400" y="292680"/>
                    <a:ext cx="424800" cy="1795320"/>
                    <a:chOff x="5459400" y="292680"/>
                    <a:chExt cx="424800" cy="1795320"/>
                  </a:xfrm>
                </p:grpSpPr>
                <p:sp>
                  <p:nvSpPr>
                    <p:cNvPr id="1133" name="Freeform 84"/>
                    <p:cNvSpPr/>
                    <p:nvPr/>
                  </p:nvSpPr>
                  <p:spPr>
                    <a:xfrm rot="16696200">
                      <a:off x="500832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4" name="Freeform 85"/>
                    <p:cNvSpPr/>
                    <p:nvPr/>
                  </p:nvSpPr>
                  <p:spPr>
                    <a:xfrm rot="16696200">
                      <a:off x="5441760" y="534240"/>
                      <a:ext cx="631080" cy="164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5" name="Group 86"/>
                  <p:cNvGrpSpPr/>
                  <p:nvPr/>
                </p:nvGrpSpPr>
                <p:grpSpPr>
                  <a:xfrm>
                    <a:off x="3063240" y="2530800"/>
                    <a:ext cx="2193480" cy="3001680"/>
                    <a:chOff x="3063240" y="2530800"/>
                    <a:chExt cx="2193480" cy="3001680"/>
                  </a:xfrm>
                </p:grpSpPr>
                <p:sp>
                  <p:nvSpPr>
                    <p:cNvPr id="1136" name="Freeform 87"/>
                    <p:cNvSpPr/>
                    <p:nvPr/>
                  </p:nvSpPr>
                  <p:spPr>
                    <a:xfrm flipH="1" rot="18336000">
                      <a:off x="3418920" y="3314520"/>
                      <a:ext cx="212544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7" name="Freeform 88"/>
                    <p:cNvSpPr/>
                    <p:nvPr/>
                  </p:nvSpPr>
                  <p:spPr>
                    <a:xfrm flipH="1" rot="18336000">
                      <a:off x="3070440" y="459108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8" name="Group 89"/>
                  <p:cNvGrpSpPr/>
                  <p:nvPr/>
                </p:nvGrpSpPr>
                <p:grpSpPr>
                  <a:xfrm>
                    <a:off x="3791520" y="2650680"/>
                    <a:ext cx="1482840" cy="2998800"/>
                    <a:chOff x="3791520" y="2650680"/>
                    <a:chExt cx="1482840" cy="2998800"/>
                  </a:xfrm>
                </p:grpSpPr>
                <p:sp>
                  <p:nvSpPr>
                    <p:cNvPr id="1139" name="Freeform 90"/>
                    <p:cNvSpPr/>
                    <p:nvPr/>
                  </p:nvSpPr>
                  <p:spPr>
                    <a:xfrm flipH="1" rot="17543400">
                      <a:off x="3738960" y="3440880"/>
                      <a:ext cx="196668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0" name="Freeform 91"/>
                    <p:cNvSpPr/>
                    <p:nvPr/>
                  </p:nvSpPr>
                  <p:spPr>
                    <a:xfrm flipH="1" rot="17543400">
                      <a:off x="3743640" y="4744440"/>
                      <a:ext cx="10555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1" name="Group 92"/>
                  <p:cNvGrpSpPr/>
                  <p:nvPr/>
                </p:nvGrpSpPr>
                <p:grpSpPr>
                  <a:xfrm>
                    <a:off x="4507200" y="2701800"/>
                    <a:ext cx="876240" cy="2927520"/>
                    <a:chOff x="4507200" y="2701800"/>
                    <a:chExt cx="876240" cy="2927520"/>
                  </a:xfrm>
                </p:grpSpPr>
                <p:sp>
                  <p:nvSpPr>
                    <p:cNvPr id="1142" name="Freeform 93"/>
                    <p:cNvSpPr/>
                    <p:nvPr/>
                  </p:nvSpPr>
                  <p:spPr>
                    <a:xfrm flipH="1" rot="16870800">
                      <a:off x="4087080" y="348768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3" name="Freeform 94"/>
                    <p:cNvSpPr/>
                    <p:nvPr/>
                  </p:nvSpPr>
                  <p:spPr>
                    <a:xfrm flipH="1" rot="16870800">
                      <a:off x="4365360" y="4807800"/>
                      <a:ext cx="1012320" cy="543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4" name="Group 95"/>
                  <p:cNvGrpSpPr/>
                  <p:nvPr/>
                </p:nvGrpSpPr>
                <p:grpSpPr>
                  <a:xfrm>
                    <a:off x="5677920" y="2483640"/>
                    <a:ext cx="2280240" cy="2952000"/>
                    <a:chOff x="5677920" y="2483640"/>
                    <a:chExt cx="2280240" cy="2952000"/>
                  </a:xfrm>
                </p:grpSpPr>
                <p:sp>
                  <p:nvSpPr>
                    <p:cNvPr id="1145" name="Freeform 96"/>
                    <p:cNvSpPr/>
                    <p:nvPr/>
                  </p:nvSpPr>
                  <p:spPr>
                    <a:xfrm rot="3144000">
                      <a:off x="5415120" y="3250800"/>
                      <a:ext cx="212580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6" name="Freeform 97"/>
                    <p:cNvSpPr/>
                    <p:nvPr/>
                  </p:nvSpPr>
                  <p:spPr>
                    <a:xfrm rot="3144000">
                      <a:off x="6801480" y="4497840"/>
                      <a:ext cx="11394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7" name="Group 98"/>
                  <p:cNvGrpSpPr/>
                  <p:nvPr/>
                </p:nvGrpSpPr>
                <p:grpSpPr>
                  <a:xfrm>
                    <a:off x="5648400" y="2594520"/>
                    <a:ext cx="1756080" cy="3030120"/>
                    <a:chOff x="5648400" y="2594520"/>
                    <a:chExt cx="1756080" cy="3030120"/>
                  </a:xfrm>
                </p:grpSpPr>
                <p:sp>
                  <p:nvSpPr>
                    <p:cNvPr id="1148" name="Freeform 99"/>
                    <p:cNvSpPr/>
                    <p:nvPr/>
                  </p:nvSpPr>
                  <p:spPr>
                    <a:xfrm rot="3745200">
                      <a:off x="5265720" y="3396600"/>
                      <a:ext cx="203328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9" name="Freeform 100"/>
                    <p:cNvSpPr/>
                    <p:nvPr/>
                  </p:nvSpPr>
                  <p:spPr>
                    <a:xfrm rot="3745200">
                      <a:off x="6351840" y="4719600"/>
                      <a:ext cx="1089720" cy="576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0" name="Group 101"/>
                  <p:cNvGrpSpPr/>
                  <p:nvPr/>
                </p:nvGrpSpPr>
                <p:grpSpPr>
                  <a:xfrm>
                    <a:off x="5576040" y="2711880"/>
                    <a:ext cx="1225800" cy="2985120"/>
                    <a:chOff x="5576040" y="2711880"/>
                    <a:chExt cx="1225800" cy="2985120"/>
                  </a:xfrm>
                </p:grpSpPr>
                <p:sp>
                  <p:nvSpPr>
                    <p:cNvPr id="1151" name="Freeform 102"/>
                    <p:cNvSpPr/>
                    <p:nvPr/>
                  </p:nvSpPr>
                  <p:spPr>
                    <a:xfrm rot="4286400">
                      <a:off x="5046840" y="3543480"/>
                      <a:ext cx="1972800" cy="302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2" name="Freeform 103"/>
                    <p:cNvSpPr/>
                    <p:nvPr/>
                  </p:nvSpPr>
                  <p:spPr>
                    <a:xfrm rot="4286400">
                      <a:off x="5878440" y="4881600"/>
                      <a:ext cx="105912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3" name="Group 104"/>
                  <p:cNvGrpSpPr/>
                  <p:nvPr/>
                </p:nvGrpSpPr>
                <p:grpSpPr>
                  <a:xfrm>
                    <a:off x="5521320" y="2839680"/>
                    <a:ext cx="696240" cy="2779200"/>
                    <a:chOff x="5521320" y="2839680"/>
                    <a:chExt cx="696240" cy="2779200"/>
                  </a:xfrm>
                </p:grpSpPr>
                <p:sp>
                  <p:nvSpPr>
                    <p:cNvPr id="1154" name="Freeform 105"/>
                    <p:cNvSpPr/>
                    <p:nvPr/>
                  </p:nvSpPr>
                  <p:spPr>
                    <a:xfrm rot="4898400">
                      <a:off x="4896000" y="3607200"/>
                      <a:ext cx="18136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5" name="Freeform 106"/>
                    <p:cNvSpPr/>
                    <p:nvPr/>
                  </p:nvSpPr>
                  <p:spPr>
                    <a:xfrm rot="4898400">
                      <a:off x="5424840" y="4865040"/>
                      <a:ext cx="97416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6" name="Group 107"/>
                  <p:cNvGrpSpPr/>
                  <p:nvPr/>
                </p:nvGrpSpPr>
                <p:grpSpPr>
                  <a:xfrm>
                    <a:off x="4961160" y="2887560"/>
                    <a:ext cx="664560" cy="2717640"/>
                    <a:chOff x="4961160" y="2887560"/>
                    <a:chExt cx="664560" cy="2717640"/>
                  </a:xfrm>
                </p:grpSpPr>
                <p:sp>
                  <p:nvSpPr>
                    <p:cNvPr id="1157" name="Freeform 108"/>
                    <p:cNvSpPr/>
                    <p:nvPr/>
                  </p:nvSpPr>
                  <p:spPr>
                    <a:xfrm rot="5755200">
                      <a:off x="453312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8" name="Freeform 109"/>
                    <p:cNvSpPr/>
                    <p:nvPr/>
                  </p:nvSpPr>
                  <p:spPr>
                    <a:xfrm rot="5755200">
                      <a:off x="4715280" y="4931640"/>
                      <a:ext cx="950760" cy="363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59" name="Group 110"/>
              <p:cNvGrpSpPr/>
              <p:nvPr/>
            </p:nvGrpSpPr>
            <p:grpSpPr>
              <a:xfrm>
                <a:off x="2174400" y="682560"/>
                <a:ext cx="6732720" cy="4521240"/>
                <a:chOff x="2174400" y="682560"/>
                <a:chExt cx="6732720" cy="4521240"/>
              </a:xfrm>
            </p:grpSpPr>
            <p:grpSp>
              <p:nvGrpSpPr>
                <p:cNvPr id="1160" name="Group 111"/>
                <p:cNvGrpSpPr/>
                <p:nvPr/>
              </p:nvGrpSpPr>
              <p:grpSpPr>
                <a:xfrm>
                  <a:off x="2174400" y="682560"/>
                  <a:ext cx="6732720" cy="4521240"/>
                  <a:chOff x="2174400" y="682560"/>
                  <a:chExt cx="6732720" cy="4521240"/>
                </a:xfrm>
              </p:grpSpPr>
              <p:sp>
                <p:nvSpPr>
                  <p:cNvPr id="1161" name="Arc 112"/>
                  <p:cNvSpPr/>
                  <p:nvPr/>
                </p:nvSpPr>
                <p:spPr>
                  <a:xfrm flipV="1">
                    <a:off x="5740560" y="857880"/>
                    <a:ext cx="3166560" cy="25239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Arc 113"/>
                  <p:cNvSpPr/>
                  <p:nvPr/>
                </p:nvSpPr>
                <p:spPr>
                  <a:xfrm flipH="1">
                    <a:off x="2561400" y="2270520"/>
                    <a:ext cx="248688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Arc 114"/>
                  <p:cNvSpPr/>
                  <p:nvPr/>
                </p:nvSpPr>
                <p:spPr>
                  <a:xfrm>
                    <a:off x="5818320" y="1752840"/>
                    <a:ext cx="175824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Arc 115"/>
                  <p:cNvSpPr/>
                  <p:nvPr/>
                </p:nvSpPr>
                <p:spPr>
                  <a:xfrm flipH="1">
                    <a:off x="2174400" y="1297800"/>
                    <a:ext cx="313344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Arc 116"/>
                  <p:cNvSpPr/>
                  <p:nvPr/>
                </p:nvSpPr>
                <p:spPr>
                  <a:xfrm flipH="1">
                    <a:off x="3056400" y="682560"/>
                    <a:ext cx="2282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Arc 117"/>
                  <p:cNvSpPr/>
                  <p:nvPr/>
                </p:nvSpPr>
                <p:spPr>
                  <a:xfrm>
                    <a:off x="5491440" y="1875960"/>
                    <a:ext cx="94068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Freeform 118"/>
                  <p:cNvSpPr/>
                  <p:nvPr/>
                </p:nvSpPr>
                <p:spPr>
                  <a:xfrm flipH="1">
                    <a:off x="430200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8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9" name="Group 120"/>
            <p:cNvGrpSpPr/>
            <p:nvPr/>
          </p:nvGrpSpPr>
          <p:grpSpPr>
            <a:xfrm>
              <a:off x="2343960" y="717480"/>
              <a:ext cx="6411960" cy="4708080"/>
              <a:chOff x="2343960" y="717480"/>
              <a:chExt cx="6411960" cy="4708080"/>
            </a:xfrm>
          </p:grpSpPr>
          <p:sp>
            <p:nvSpPr>
              <p:cNvPr id="1170" name="Freeform 121"/>
              <p:cNvSpPr/>
              <p:nvPr/>
            </p:nvSpPr>
            <p:spPr>
              <a:xfrm flipH="1">
                <a:off x="4470840" y="3239280"/>
                <a:ext cx="598320" cy="1823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Arc 122"/>
              <p:cNvSpPr/>
              <p:nvPr/>
            </p:nvSpPr>
            <p:spPr>
              <a:xfrm flipH="1">
                <a:off x="3385440" y="2584440"/>
                <a:ext cx="2617200" cy="284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Arc 123"/>
              <p:cNvSpPr/>
              <p:nvPr/>
            </p:nvSpPr>
            <p:spPr>
              <a:xfrm flipH="1">
                <a:off x="3646800" y="212688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Arc 124"/>
              <p:cNvSpPr/>
              <p:nvPr/>
            </p:nvSpPr>
            <p:spPr>
              <a:xfrm flipH="1">
                <a:off x="2343600" y="1743480"/>
                <a:ext cx="293076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Arc 125"/>
              <p:cNvSpPr/>
              <p:nvPr/>
            </p:nvSpPr>
            <p:spPr>
              <a:xfrm>
                <a:off x="5588640" y="215532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Arc 126"/>
              <p:cNvSpPr/>
              <p:nvPr/>
            </p:nvSpPr>
            <p:spPr>
              <a:xfrm>
                <a:off x="5711760" y="214164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Freeform 127"/>
              <p:cNvSpPr/>
              <p:nvPr/>
            </p:nvSpPr>
            <p:spPr>
              <a:xfrm>
                <a:off x="6155640" y="3551400"/>
                <a:ext cx="598320" cy="1823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Freeform 128"/>
              <p:cNvSpPr/>
              <p:nvPr/>
            </p:nvSpPr>
            <p:spPr>
              <a:xfrm flipV="1" rot="19660800">
                <a:off x="5226840" y="295200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29"/>
              <p:cNvSpPr/>
              <p:nvPr/>
            </p:nvSpPr>
            <p:spPr>
              <a:xfrm flipH="1">
                <a:off x="2688120" y="33886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Freeform 130"/>
              <p:cNvSpPr/>
              <p:nvPr/>
            </p:nvSpPr>
            <p:spPr>
              <a:xfrm flipH="1">
                <a:off x="3318840" y="140292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Freeform 131"/>
              <p:cNvSpPr/>
              <p:nvPr/>
            </p:nvSpPr>
            <p:spPr>
              <a:xfrm>
                <a:off x="7513920" y="3112560"/>
                <a:ext cx="1242000" cy="1974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32"/>
              <p:cNvSpPr/>
              <p:nvPr/>
            </p:nvSpPr>
            <p:spPr>
              <a:xfrm>
                <a:off x="6868800" y="211464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Freeform 133"/>
              <p:cNvSpPr/>
              <p:nvPr/>
            </p:nvSpPr>
            <p:spPr>
              <a:xfrm>
                <a:off x="6937920" y="717480"/>
                <a:ext cx="819000" cy="17683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Freeform 134"/>
              <p:cNvSpPr/>
              <p:nvPr/>
            </p:nvSpPr>
            <p:spPr>
              <a:xfrm flipH="1" rot="1347000">
                <a:off x="4183920" y="2158560"/>
                <a:ext cx="54396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5C2F-33A7-4EC6-AF7E-39772D9272C0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CFFB-C3D7-4D0F-93CD-E2A0995CB9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1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7FE4-114C-4571-86DF-4081F98C4E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32C8-5DC3-4E12-A21D-D1307355FAC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9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70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71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6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6A5A-E55F-4BF8-9529-6F2ED7F27B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459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60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3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66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8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469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70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473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474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477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480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483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486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489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492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495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98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0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501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3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504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6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507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9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10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2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13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5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16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8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519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1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522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4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525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7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528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0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531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534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6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8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539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1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542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4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545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7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548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0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551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3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554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6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557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9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560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2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563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5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566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8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569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1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Arc 123"/>
              <p:cNvSpPr/>
              <p:nvPr/>
            </p:nvSpPr>
            <p:spPr>
              <a:xfrm>
                <a:off x="785772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Arc 128"/>
              <p:cNvSpPr/>
              <p:nvPr/>
            </p:nvSpPr>
            <p:spPr>
              <a:xfrm>
                <a:off x="7722360" y="657000"/>
                <a:ext cx="390240" cy="11818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F6E8-4C65-473D-ACBA-8355DEEC59D4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35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36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1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20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3699-6F79-4DA3-A681-A44B2C01922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85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DBD0-A8EE-4D86-9AD8-AADE734D12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745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F118-4A43-4E78-87F8-4ADFE2F098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6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2" name="Picture 4" descr="35"/>
          <p:cNvPicPr/>
          <p:nvPr/>
        </p:nvPicPr>
        <p:blipFill>
          <a:blip r:embed="rId1"/>
          <a:stretch/>
        </p:blipFill>
        <p:spPr>
          <a:xfrm>
            <a:off x="-304920" y="-304920"/>
            <a:ext cx="9448920" cy="7929720"/>
          </a:xfrm>
          <a:prstGeom prst="rect">
            <a:avLst/>
          </a:prstGeom>
          <a:ln w="0">
            <a:noFill/>
          </a:ln>
        </p:spPr>
      </p:pic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Gigi"/>
              </a:rPr>
              <a:t>Поезія Ліни Костенко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55627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 Black"/>
              </a:rPr>
              <a:t>До 80-ліття</a:t>
            </a:r>
            <a:br>
              <a:rPr sz="4400"/>
            </a:br>
            <a:r>
              <a:rPr b="0" lang="uk-UA" sz="4400" spc="-1" strike="noStrike">
                <a:solidFill>
                  <a:srgbClr val="ffffff"/>
                </a:solidFill>
                <a:latin typeface="Arial Black"/>
              </a:rPr>
              <a:t>Ліни Костенко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71" name="Picture 10" descr="218-6-1"/>
          <p:cNvPicPr/>
          <p:nvPr/>
        </p:nvPicPr>
        <p:blipFill>
          <a:blip r:embed="rId1"/>
          <a:stretch/>
        </p:blipFill>
        <p:spPr>
          <a:xfrm>
            <a:off x="0" y="1828800"/>
            <a:ext cx="2736720" cy="1981080"/>
          </a:xfrm>
          <a:prstGeom prst="rect">
            <a:avLst/>
          </a:prstGeom>
          <a:ln w="0">
            <a:noFill/>
          </a:ln>
        </p:spPr>
      </p:pic>
      <p:pic>
        <p:nvPicPr>
          <p:cNvPr id="1272" name="Picture 17" descr="1269431853"/>
          <p:cNvPicPr/>
          <p:nvPr/>
        </p:nvPicPr>
        <p:blipFill>
          <a:blip r:embed="rId2"/>
          <a:stretch/>
        </p:blipFill>
        <p:spPr>
          <a:xfrm>
            <a:off x="2971800" y="1828800"/>
            <a:ext cx="2381400" cy="1809720"/>
          </a:xfrm>
          <a:prstGeom prst="rect">
            <a:avLst/>
          </a:prstGeom>
          <a:ln w="0">
            <a:noFill/>
          </a:ln>
        </p:spPr>
      </p:pic>
      <p:pic>
        <p:nvPicPr>
          <p:cNvPr id="1273" name="Picture 18" descr="50-7-1"/>
          <p:cNvPicPr/>
          <p:nvPr/>
        </p:nvPicPr>
        <p:blipFill>
          <a:blip r:embed="rId3"/>
          <a:stretch/>
        </p:blipFill>
        <p:spPr>
          <a:xfrm>
            <a:off x="7737480" y="4876920"/>
            <a:ext cx="1406520" cy="1981080"/>
          </a:xfrm>
          <a:prstGeom prst="rect">
            <a:avLst/>
          </a:prstGeom>
          <a:ln w="0">
            <a:noFill/>
          </a:ln>
        </p:spPr>
      </p:pic>
      <p:pic>
        <p:nvPicPr>
          <p:cNvPr id="1274" name="Picture 19" descr="1269436198"/>
          <p:cNvPicPr/>
          <p:nvPr/>
        </p:nvPicPr>
        <p:blipFill>
          <a:blip r:embed="rId4"/>
          <a:stretch/>
        </p:blipFill>
        <p:spPr>
          <a:xfrm>
            <a:off x="0" y="4876920"/>
            <a:ext cx="3059280" cy="1981080"/>
          </a:xfrm>
          <a:prstGeom prst="rect">
            <a:avLst/>
          </a:prstGeom>
          <a:ln w="0">
            <a:noFill/>
          </a:ln>
        </p:spPr>
      </p:pic>
      <p:pic>
        <p:nvPicPr>
          <p:cNvPr id="1275" name="Picture 20" descr="1269440366"/>
          <p:cNvPicPr/>
          <p:nvPr/>
        </p:nvPicPr>
        <p:blipFill>
          <a:blip r:embed="rId5"/>
          <a:stretch/>
        </p:blipFill>
        <p:spPr>
          <a:xfrm>
            <a:off x="5181480" y="5342040"/>
            <a:ext cx="2286000" cy="1515960"/>
          </a:xfrm>
          <a:prstGeom prst="rect">
            <a:avLst/>
          </a:prstGeom>
          <a:ln w="0">
            <a:noFill/>
          </a:ln>
        </p:spPr>
      </p:pic>
      <p:pic>
        <p:nvPicPr>
          <p:cNvPr id="1276" name="Picture 21" descr="23-1"/>
          <p:cNvPicPr/>
          <p:nvPr/>
        </p:nvPicPr>
        <p:blipFill>
          <a:blip r:embed="rId6"/>
          <a:stretch/>
        </p:blipFill>
        <p:spPr>
          <a:xfrm>
            <a:off x="3733920" y="5638680"/>
            <a:ext cx="952560" cy="1219320"/>
          </a:xfrm>
          <a:prstGeom prst="rect">
            <a:avLst/>
          </a:prstGeom>
          <a:ln w="0">
            <a:noFill/>
          </a:ln>
        </p:spPr>
      </p:pic>
      <p:pic>
        <p:nvPicPr>
          <p:cNvPr id="1277" name="Picture 22" descr="3670851_large"/>
          <p:cNvPicPr/>
          <p:nvPr/>
        </p:nvPicPr>
        <p:blipFill>
          <a:blip r:embed="rId7"/>
          <a:stretch/>
        </p:blipFill>
        <p:spPr>
          <a:xfrm>
            <a:off x="5410080" y="3581280"/>
            <a:ext cx="1905120" cy="1527120"/>
          </a:xfrm>
          <a:prstGeom prst="rect">
            <a:avLst/>
          </a:prstGeom>
          <a:ln w="0">
            <a:noFill/>
          </a:ln>
        </p:spPr>
      </p:pic>
      <p:pic>
        <p:nvPicPr>
          <p:cNvPr id="1278" name="Picture 23" descr="8cf19f0508_211928"/>
          <p:cNvPicPr/>
          <p:nvPr/>
        </p:nvPicPr>
        <p:blipFill>
          <a:blip r:embed="rId8"/>
          <a:stretch/>
        </p:blipFill>
        <p:spPr>
          <a:xfrm>
            <a:off x="3429000" y="4038480"/>
            <a:ext cx="1676520" cy="128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Життєвий шлях Ліни Костенк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9 березня 1930 р. народження відомої поетес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1936 р. жила в Києві, де й закінчила середню школ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1956 р. закінчила Московський літературний інститу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6" name="Picture 7" descr="Портреты укр писателей-32"/>
          <p:cNvPicPr/>
          <p:nvPr/>
        </p:nvPicPr>
        <p:blipFill>
          <a:blip r:embed="rId1"/>
          <a:stretch/>
        </p:blipFill>
        <p:spPr>
          <a:xfrm>
            <a:off x="5638680" y="1523880"/>
            <a:ext cx="3048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Творч</a:t>
            </a: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і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ть Л</a:t>
            </a: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іни Костенко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ша збірка «Проміння землі» вийшла в 1957 роц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Мандрівка серця» (196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Над берегами вічної ріки» (197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«Сад нетанучих скульптур» (198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«Неповторність» (198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«Вибране» (198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«Маруся Чурай» (197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Це найвідоміші твори Ліни Костенк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9" name="Picture 8" descr="196_b"/>
          <p:cNvPicPr/>
          <p:nvPr/>
        </p:nvPicPr>
        <p:blipFill>
          <a:blip r:embed="rId1"/>
          <a:stretch/>
        </p:blipFill>
        <p:spPr>
          <a:xfrm>
            <a:off x="5305320" y="1447920"/>
            <a:ext cx="3514680" cy="48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0000"/>
                </a:solidFill>
                <a:latin typeface="Arial"/>
              </a:rPr>
              <a:t>Сім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i="1" lang="uk-UA" sz="4400" spc="-1" strike="noStrike">
                <a:solidFill>
                  <a:srgbClr val="ff0000"/>
                </a:solidFill>
                <a:latin typeface="Arial"/>
              </a:rPr>
              <a:t>я Ліни Костенко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1241" name="Organization Chart 7"/>
          <p:cNvGrpSpPr/>
          <p:nvPr/>
        </p:nvGrpSpPr>
        <p:grpSpPr>
          <a:xfrm>
            <a:off x="457200" y="1619280"/>
            <a:ext cx="8228880" cy="4494600"/>
            <a:chOff x="457200" y="1619280"/>
            <a:chExt cx="8228880" cy="4494600"/>
          </a:xfrm>
        </p:grpSpPr>
        <p:cxnSp>
          <p:nvCxnSpPr>
            <p:cNvPr id="1242" name="_s1028"/>
            <p:cNvCxnSpPr>
              <a:stCxn id="1243" idx="0"/>
              <a:endCxn id="1244" idx="2"/>
            </p:cNvCxnSpPr>
            <p:nvPr/>
          </p:nvCxnSpPr>
          <p:spPr>
            <a:xfrm flipV="1" rot="16200000">
              <a:off x="5561640" y="2425680"/>
              <a:ext cx="899640" cy="2880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45" name="_s1029"/>
            <p:cNvCxnSpPr>
              <a:stCxn id="1246" idx="0"/>
              <a:endCxn id="1244" idx="2"/>
            </p:cNvCxnSpPr>
            <p:nvPr/>
          </p:nvCxnSpPr>
          <p:spPr>
            <a:xfrm flipV="1">
              <a:off x="4571280" y="3416400"/>
              <a:ext cx="3240" cy="899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47" name="_s1030"/>
            <p:cNvCxnSpPr>
              <a:stCxn id="1248" idx="0"/>
              <a:endCxn id="1244" idx="2"/>
            </p:cNvCxnSpPr>
            <p:nvPr/>
          </p:nvCxnSpPr>
          <p:spPr>
            <a:xfrm flipH="1" flipV="1" rot="5400000">
              <a:off x="2681640" y="2426040"/>
              <a:ext cx="899640" cy="2880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44" name="_s1031"/>
            <p:cNvSpPr/>
            <p:nvPr/>
          </p:nvSpPr>
          <p:spPr>
            <a:xfrm>
              <a:off x="3337200" y="161928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100" spc="-1" strike="noStrike">
                  <a:solidFill>
                    <a:srgbClr val="ffffff"/>
                  </a:solidFill>
                  <a:latin typeface="Arial"/>
                </a:rPr>
                <a:t>Ліна </a:t>
              </a:r>
              <a:endParaRPr b="0" lang="en-US" sz="4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100" spc="-1" strike="noStrike">
                  <a:solidFill>
                    <a:srgbClr val="ffffff"/>
                  </a:solidFill>
                  <a:latin typeface="Arial"/>
                </a:rPr>
                <a:t>Костенко</a:t>
              </a:r>
              <a:endParaRPr b="0" lang="en-US" sz="4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_s1032"/>
            <p:cNvSpPr/>
            <p:nvPr/>
          </p:nvSpPr>
          <p:spPr>
            <a:xfrm>
              <a:off x="457200" y="431604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ffffff"/>
                  </a:solidFill>
                  <a:latin typeface="Arial"/>
                </a:rPr>
                <a:t>Дочка Ліни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Arial"/>
                </a:rPr>
                <a:t>Ольга Пахльовська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_s1033"/>
            <p:cNvSpPr/>
            <p:nvPr/>
          </p:nvSpPr>
          <p:spPr>
            <a:xfrm>
              <a:off x="3337200" y="431604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ffffff"/>
                  </a:solidFill>
                  <a:latin typeface="Arial"/>
                </a:rPr>
                <a:t>Батько Ліни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ffffff"/>
                  </a:solidFill>
                  <a:latin typeface="Arial"/>
                </a:rPr>
                <a:t>Василь Костенко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_s1034"/>
            <p:cNvSpPr/>
            <p:nvPr/>
          </p:nvSpPr>
          <p:spPr>
            <a:xfrm>
              <a:off x="6217560" y="431604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ffffff"/>
                  </a:solidFill>
                  <a:latin typeface="Arial"/>
                </a:rPr>
                <a:t>Мати Ліни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ffffff"/>
                  </a:solidFill>
                  <a:latin typeface="Arial"/>
                </a:rPr>
                <a:t>Віра Костенко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9" name="Picture 6" descr="базар"/>
          <p:cNvPicPr/>
          <p:nvPr/>
        </p:nvPicPr>
        <p:blipFill>
          <a:blip r:embed="rId1"/>
          <a:stretch/>
        </p:blipFill>
        <p:spPr>
          <a:xfrm>
            <a:off x="3124080" y="4857840"/>
            <a:ext cx="3048120" cy="2000160"/>
          </a:xfrm>
          <a:prstGeom prst="rect">
            <a:avLst/>
          </a:prstGeom>
          <a:ln w="0">
            <a:noFill/>
          </a:ln>
        </p:spPr>
      </p:pic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cc"/>
                </a:solidFill>
                <a:latin typeface="Garamond"/>
              </a:rPr>
              <a:t>«Доля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Наснився мені чудернацький базар: 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під небом у чистому полі, 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для різних людей, 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для щедрих і скнар, 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продавалися різні Долі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Одні були царівен не гірш, 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а другі – як бідні Міньйони. 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Хту купляв собі Долю за гріш. 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А хто – і за мільон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Дехто щастям своїм платив. 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Дехто платив сумлінням. 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Дехто – золотом золотим. 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А дехто – вельми сумнівним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Долі-ворожки, тасуючи дні, 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до покупців горнулись. 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Долі самі набивались мені. 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І тільки одна відвернулась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Я глянула їй в обличчя ясне, 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душею покликала очі… 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– Ти, все одно, не візьмеш мене, – 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Сказала вона неохоче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А може візьму? 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– Ти собі затям, – 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сказала вона суворо, – 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за мене треба платити життям. 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А я принесу тобі горе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То хто ж ти така? 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Як твоє ім'я? 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Чи варта такої плати? 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– Поезія – рідна сестра моя. 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А правда людська – наша мат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І я її прийняла, як закон. 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І диво велике сталось: 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минула ніч. І скінчився сон. 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А Доля мені зосталась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Я вибрала Долю собі сама. 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І що зі мною не станеться, – 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у мене жодних претензій нема </a:t>
            </a:r>
            <a:br>
              <a:rPr sz="1800"/>
            </a:br>
            <a:r>
              <a:rPr b="1" lang="uk-UA" sz="1800" spc="-1" strike="noStrike">
                <a:solidFill>
                  <a:srgbClr val="ffffff"/>
                </a:solidFill>
                <a:latin typeface="Garamond"/>
              </a:rPr>
              <a:t>до Долі – моєї обраниці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3" name="Picture 4" descr="Ukr22"/>
          <p:cNvPicPr/>
          <p:nvPr/>
        </p:nvPicPr>
        <p:blipFill>
          <a:blip r:embed="rId2"/>
          <a:stretch/>
        </p:blipFill>
        <p:spPr>
          <a:xfrm>
            <a:off x="6705720" y="0"/>
            <a:ext cx="243828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10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4" name="Picture 5" descr="s320x2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Garamond"/>
              </a:rPr>
              <a:t>«Хай буде легко. Дотиком пера»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Хай буде легко. Дотиком пер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Хай буде вічно. Спомином пресвітли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Цей білий світ — березова кора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по чорних днях побілена десь звідта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Сьогодні сніг іти вже поривавсь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Сьогодні осінь похлинулась димо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Хай буде гірко. Спогадом про Вас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Хай буде світло, спогадом предивни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Хай не розбудить смутку телефон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Нехай печаль не зрушиться листам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Хай буде легко. Це був тільки сон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що ледь торкнувся пам'яті вустам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7" name="Picture 4" descr="IMG_77471-150x150"/>
          <p:cNvPicPr/>
          <p:nvPr/>
        </p:nvPicPr>
        <p:blipFill>
          <a:blip r:embed="rId2"/>
          <a:stretch/>
        </p:blipFill>
        <p:spPr>
          <a:xfrm>
            <a:off x="6858000" y="2286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1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1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000"/>
                                        <p:tgtEl>
                                          <p:spTgt spid="1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1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1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1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1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1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1000"/>
                                        <p:tgtEl>
                                          <p:spTgt spid="1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12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12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12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8" name="Picture 6" descr="ljubovy-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«СВІТЛИЙ СОНЕТ»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Garamond"/>
              </a:rPr>
              <a:t>Як пощастило дівчині в сімнадцять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Garamond"/>
              </a:rPr>
              <a:t>в сімнадцять гарних, неповторних літ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Garamond"/>
              </a:rPr>
              <a:t>Ти не дивись, що дівчинка сумна ц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Garamond"/>
              </a:rPr>
              <a:t>Вона ридає, але все як слід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Garamond"/>
              </a:rPr>
              <a:t>Вона росте ще, завтра буде вищеньк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Garamond"/>
              </a:rPr>
              <a:t>Але печаль приходить завчасу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Garamond"/>
              </a:rPr>
              <a:t>Це ще не сльози – це квітуча вишенька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Garamond"/>
              </a:rPr>
              <a:t>що на світанку струшує росу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Garamond"/>
              </a:rPr>
              <a:t>Вона в житті зіткнулась з неприємістю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Garamond"/>
              </a:rPr>
              <a:t>хлопчина їй не відповів взаємністю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Garamond"/>
              </a:rPr>
              <a:t>І то чому: бо любить іншу дівчину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Garamond"/>
              </a:rPr>
              <a:t>а вірність має душу неподільчиву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Garamond"/>
              </a:rPr>
              <a:t>Ти не дивись, що дівчинка сумна ц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Garamond"/>
              </a:rPr>
              <a:t>Як пощастило дівчинці в сімнадцять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1" name="Picture 5" descr="3249274_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«Чоловіче мій, запрягай коня»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Garamond"/>
              </a:rPr>
              <a:t>Чоловіче мій, запрягай кон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Garamond"/>
              </a:rPr>
              <a:t>То не кінь, а змій, миготить стерн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Garamond"/>
              </a:rPr>
              <a:t>Доберемося за три годиночк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Garamond"/>
              </a:rPr>
              <a:t>За стонадцять верст до родиночк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Garamond"/>
              </a:rPr>
              <a:t>Чуєш роде мій, роде, родоньку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Garamond"/>
              </a:rPr>
              <a:t>Чом бур</a:t>
            </a: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’</a:t>
            </a:r>
            <a:r>
              <a:rPr b="1" lang="uk-UA" sz="1800" spc="-1" strike="noStrike">
                <a:solidFill>
                  <a:srgbClr val="ff0000"/>
                </a:solidFill>
                <a:latin typeface="Garamond"/>
              </a:rPr>
              <a:t>ян пішов по городоньку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Garamond"/>
              </a:rPr>
              <a:t>Роботящий мій з діда-прадіда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Garamond"/>
              </a:rPr>
              <a:t>Двір занедбаний - Боже праведний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Garamond"/>
              </a:rPr>
              <a:t>Ой ти ж роде мій, мій ріднесенький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Garamond"/>
              </a:rPr>
              <a:t>Хоч би вийшов хто, хоч однесенький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Garamond"/>
              </a:rPr>
              <a:t>Що ж це двері всі позамикані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Garamond"/>
              </a:rPr>
              <a:t>Чи приїхали ж ми некликані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48320" y="2590920"/>
            <a:ext cx="403848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Garamond"/>
              </a:rPr>
              <a:t>Дев</a:t>
            </a: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’</a:t>
            </a:r>
            <a:r>
              <a:rPr b="1" lang="uk-UA" sz="2000" spc="-1" strike="noStrike">
                <a:solidFill>
                  <a:srgbClr val="ff0000"/>
                </a:solidFill>
                <a:latin typeface="Garamond"/>
              </a:rPr>
              <a:t>ять день душа ще пручається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Garamond"/>
              </a:rPr>
              <a:t>А тепер вже десь розлучаєтьс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Garamond"/>
              </a:rPr>
              <a:t>Ту морквиночку, тую квітоньку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Garamond"/>
              </a:rPr>
              <a:t>Не прополеш із того світоньку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Garamond"/>
              </a:rPr>
              <a:t>Люди згадують - ми навідались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Garamond"/>
              </a:rPr>
              <a:t>От ми родоньку, перевідались..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Garamond"/>
              </a:rPr>
              <a:t>Чоловіче мій, запрягай кон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Garamond"/>
              </a:rPr>
              <a:t>То не кінь, а змій, миготить стерня.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5" name="Picture 4" descr="1589-1"/>
          <p:cNvPicPr/>
          <p:nvPr/>
        </p:nvPicPr>
        <p:blipFill>
          <a:blip r:embed="rId2"/>
          <a:stretch/>
        </p:blipFill>
        <p:spPr>
          <a:xfrm>
            <a:off x="6486480" y="0"/>
            <a:ext cx="265752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«Коректна ода ворогам»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1143000" y="990720"/>
            <a:ext cx="5105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400" spc="-1" strike="noStrike">
                <a:solidFill>
                  <a:srgbClr val="ff0000"/>
                </a:solidFill>
                <a:latin typeface="Arial"/>
              </a:rPr>
              <a:t>Мої кохані, милі вороги! </a:t>
            </a:r>
            <a:br>
              <a:rPr sz="1400"/>
            </a:br>
            <a:r>
              <a:rPr b="1" lang="uk-UA" sz="1400" spc="-1" strike="noStrike">
                <a:solidFill>
                  <a:srgbClr val="ff0000"/>
                </a:solidFill>
                <a:latin typeface="Arial"/>
              </a:rPr>
              <a:t>Я мушу вам освідчитись в симпатії. </a:t>
            </a:r>
            <a:br>
              <a:rPr sz="1400"/>
            </a:br>
            <a:r>
              <a:rPr b="1" lang="uk-UA" sz="1400" spc="-1" strike="noStrike">
                <a:solidFill>
                  <a:srgbClr val="ff0000"/>
                </a:solidFill>
                <a:latin typeface="Arial"/>
              </a:rPr>
              <a:t>Якби було вас менше навкруги,— </a:t>
            </a:r>
            <a:br>
              <a:rPr sz="1400"/>
            </a:br>
            <a:r>
              <a:rPr b="1" lang="uk-UA" sz="1400" spc="-1" strike="noStrike">
                <a:solidFill>
                  <a:srgbClr val="ff0000"/>
                </a:solidFill>
                <a:latin typeface="Arial"/>
              </a:rPr>
              <a:t>людина може вдаритись в апатію. </a:t>
            </a:r>
            <a:br>
              <a:rPr sz="1400"/>
            </a:br>
            <a:br>
              <a:rPr sz="1400"/>
            </a:br>
            <a:r>
              <a:rPr b="1" lang="uk-UA" sz="1400" spc="-1" strike="noStrike">
                <a:solidFill>
                  <a:srgbClr val="ff0000"/>
                </a:solidFill>
                <a:latin typeface="Arial"/>
              </a:rPr>
              <a:t>Мені смакує ваш ажіотаж. </a:t>
            </a:r>
            <a:br>
              <a:rPr sz="1400"/>
            </a:br>
            <a:r>
              <a:rPr b="1" lang="uk-UA" sz="1400" spc="-1" strike="noStrike">
                <a:solidFill>
                  <a:srgbClr val="ff0000"/>
                </a:solidFill>
                <a:latin typeface="Arial"/>
              </a:rPr>
              <a:t>Я вас ділю на види і на ранги. </a:t>
            </a:r>
            <a:br>
              <a:rPr sz="1400"/>
            </a:br>
            <a:r>
              <a:rPr b="1" lang="uk-UA" sz="1400" spc="-1" strike="noStrike">
                <a:solidFill>
                  <a:srgbClr val="ff0000"/>
                </a:solidFill>
                <a:latin typeface="Arial"/>
              </a:rPr>
              <a:t>Ви — мій щоденний, звичний мій тренаж, </a:t>
            </a:r>
            <a:br>
              <a:rPr sz="1400"/>
            </a:br>
            <a:r>
              <a:rPr b="1" lang="uk-UA" sz="1400" spc="-1" strike="noStrike">
                <a:solidFill>
                  <a:srgbClr val="ff0000"/>
                </a:solidFill>
                <a:latin typeface="Arial"/>
              </a:rPr>
              <a:t>мої гантелі, турники і штанги. </a:t>
            </a:r>
            <a:br>
              <a:rPr sz="1400"/>
            </a:br>
            <a:br>
              <a:rPr sz="1400"/>
            </a:br>
            <a:r>
              <a:rPr b="1" lang="uk-UA" sz="1400" spc="-1" strike="noStrike">
                <a:solidFill>
                  <a:srgbClr val="ff0000"/>
                </a:solidFill>
                <a:latin typeface="Arial"/>
              </a:rPr>
              <a:t>Спортивна форма — гарне відчуття. </a:t>
            </a:r>
            <a:br>
              <a:rPr sz="1400"/>
            </a:br>
            <a:r>
              <a:rPr b="1" lang="uk-UA" sz="1400" spc="-1" strike="noStrike">
                <a:solidFill>
                  <a:srgbClr val="ff0000"/>
                </a:solidFill>
                <a:latin typeface="Arial"/>
              </a:rPr>
              <a:t>Марудна справа — жити без баталій. </a:t>
            </a:r>
            <a:br>
              <a:rPr sz="1400"/>
            </a:br>
            <a:r>
              <a:rPr b="1" lang="uk-UA" sz="1400" spc="-1" strike="noStrike">
                <a:solidFill>
                  <a:srgbClr val="ff0000"/>
                </a:solidFill>
                <a:latin typeface="Arial"/>
              </a:rPr>
              <a:t>Людина від спокійного життя </a:t>
            </a:r>
            <a:br>
              <a:rPr sz="1400"/>
            </a:br>
            <a:r>
              <a:rPr b="1" lang="uk-UA" sz="1400" spc="-1" strike="noStrike">
                <a:solidFill>
                  <a:srgbClr val="ff0000"/>
                </a:solidFill>
                <a:latin typeface="Arial"/>
              </a:rPr>
              <a:t>жиріє серцем і втрачає талію. </a:t>
            </a:r>
            <a:br>
              <a:rPr sz="1400"/>
            </a:br>
            <a:br>
              <a:rPr sz="1400"/>
            </a:br>
            <a:r>
              <a:rPr b="1" lang="uk-UA" sz="1400" spc="-1" strike="noStrike">
                <a:solidFill>
                  <a:srgbClr val="ff0000"/>
                </a:solidFill>
                <a:latin typeface="Arial"/>
              </a:rPr>
              <a:t>Спасибі й вам, що ви не м’якуші. </a:t>
            </a:r>
            <a:br>
              <a:rPr sz="1400"/>
            </a:br>
            <a:r>
              <a:rPr b="1" lang="uk-UA" sz="1400" spc="-1" strike="noStrike">
                <a:solidFill>
                  <a:srgbClr val="ff0000"/>
                </a:solidFill>
                <a:latin typeface="Arial"/>
              </a:rPr>
              <a:t>Дрібнота буть не годна ворогами. </a:t>
            </a:r>
            <a:br>
              <a:rPr sz="1400"/>
            </a:br>
            <a:r>
              <a:rPr b="1" lang="uk-UA" sz="1400" spc="-1" strike="noStrike">
                <a:solidFill>
                  <a:srgbClr val="ff0000"/>
                </a:solidFill>
                <a:latin typeface="Arial"/>
              </a:rPr>
              <a:t>Якщо я маю біцепси душі — </a:t>
            </a:r>
            <a:br>
              <a:rPr sz="1400"/>
            </a:br>
            <a:r>
              <a:rPr b="1" lang="uk-UA" sz="1400" spc="-1" strike="noStrike">
                <a:solidFill>
                  <a:srgbClr val="ff0000"/>
                </a:solidFill>
                <a:latin typeface="Arial"/>
              </a:rPr>
              <a:t>то в результаті сутичок із вами. </a:t>
            </a:r>
            <a:br>
              <a:rPr sz="1400"/>
            </a:br>
            <a:br>
              <a:rPr sz="1400"/>
            </a:br>
            <a:r>
              <a:rPr b="1" lang="uk-UA" sz="1400" spc="-1" strike="noStrike">
                <a:solidFill>
                  <a:srgbClr val="ff0000"/>
                </a:solidFill>
                <a:latin typeface="Arial"/>
              </a:rPr>
              <a:t>Отож хвала вам! </a:t>
            </a:r>
            <a:br>
              <a:rPr sz="1400"/>
            </a:br>
            <a:r>
              <a:rPr b="1" lang="uk-UA" sz="1400" spc="-1" strike="noStrike">
                <a:solidFill>
                  <a:srgbClr val="ff0000"/>
                </a:solidFill>
                <a:latin typeface="Arial"/>
              </a:rPr>
              <a:t>Бережіть снагу. </a:t>
            </a:r>
            <a:br>
              <a:rPr sz="1400"/>
            </a:br>
            <a:r>
              <a:rPr b="1" lang="uk-UA" sz="1400" spc="-1" strike="noStrike">
                <a:solidFill>
                  <a:srgbClr val="ff0000"/>
                </a:solidFill>
                <a:latin typeface="Arial"/>
              </a:rPr>
              <a:t>І чемно попередить вас дозвольте: </a:t>
            </a:r>
            <a:br>
              <a:rPr sz="1400"/>
            </a:br>
            <a:r>
              <a:rPr b="1" lang="uk-UA" sz="1400" spc="-1" strike="noStrike">
                <a:solidFill>
                  <a:srgbClr val="ff0000"/>
                </a:solidFill>
                <a:latin typeface="Arial"/>
              </a:rPr>
              <a:t>якщо мене ви й зігнете в дугу, </a:t>
            </a:r>
            <a:br>
              <a:rPr sz="1400"/>
            </a:br>
            <a:r>
              <a:rPr b="1" lang="uk-UA" sz="1400" spc="-1" strike="noStrike">
                <a:solidFill>
                  <a:srgbClr val="ff0000"/>
                </a:solidFill>
                <a:latin typeface="Arial"/>
              </a:rPr>
              <a:t>то ця дуга, напевно, буде вольто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8" name="Picture 4" descr="image001"/>
          <p:cNvPicPr/>
          <p:nvPr/>
        </p:nvPicPr>
        <p:blipFill>
          <a:blip r:embed="rId1"/>
          <a:stretch/>
        </p:blipFill>
        <p:spPr>
          <a:xfrm>
            <a:off x="5334120" y="838080"/>
            <a:ext cx="3581280" cy="4267440"/>
          </a:xfrm>
          <a:prstGeom prst="rect">
            <a:avLst/>
          </a:prstGeom>
          <a:ln w="0">
            <a:noFill/>
          </a:ln>
        </p:spPr>
      </p:pic>
      <p:pic>
        <p:nvPicPr>
          <p:cNvPr id="1269" name="Picture 6" descr="bd00085_"/>
          <p:cNvPicPr/>
          <p:nvPr/>
        </p:nvPicPr>
        <p:blipFill>
          <a:blip r:embed="rId2"/>
          <a:stretch/>
        </p:blipFill>
        <p:spPr>
          <a:xfrm>
            <a:off x="0" y="838080"/>
            <a:ext cx="73915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2010-10-22T18:37:55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